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770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368-491B-49A0-A334-9DAECA7D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1CA-E84E-4FA3-895F-B65CAF26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92F-69A1-4287-B89E-25D3E07D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A05-76EE-449E-9B7B-3982C7F5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E159-7F79-4112-B137-B96EAA10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912A-2247-419B-8C70-03BF3E94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F32C-5C0F-40F5-9406-F30D7EA6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F661-B4C8-47E0-AFF7-812B14C5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C16E-1DB7-4E21-BD45-41531CB3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EACE-A35A-41FC-812D-5DB8D5BA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AFA5-8176-4656-B31B-97510234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5BF-643C-4652-A44B-78ABFC09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C4B5-38AF-4235-9DA4-60FF092E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5040-5C71-440D-8134-B6901519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9B17-9302-4AD0-892F-ABD36A82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36E4-87F7-4016-BCB6-F1DBD70D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068D-A816-4241-B735-A973C90F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B68-C275-47F7-9980-DDD77C89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F9D-E702-4802-BB82-1D0BFBA9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C19-DE45-4844-8960-8A723AC5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1A2-49D4-4AD4-93B9-5D778523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D69-A2E4-47A8-B34B-B0A916A2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D7B-7F72-4D44-B3D6-7F69D129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E2F-742D-4F59-A3C4-FF93E950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DB90-5D60-4311-8AC2-62373F05FB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4C2A-39B2-4C8F-87EB-6A4AB45E4C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P 631 Library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Important Concept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 is the impact of educational policy and school improvement on student perform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lean (logical) operator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D, OR, N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rch Ph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ducational policy OR school improvement AND student achie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Source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uments or records containing firsthand information or original data on a top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riginal manuscripts, articles reporting original research, memoirs, letters, diaries, journals, photographs, interview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 Source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works that are one step removed from the original source, that describe, summarize, or evaluate, and that are derived or based on primary source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: reviews, critical analysis, second-person accounts, biographical studies, historical studi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tiary Source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 based entirely on secondary sources rather than on original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: textbook chapters, dictionary entries, encyclopedia essays, almanacs, guid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Identify and develop your topi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Formulate a research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at is the impact of educational policy and school improvement on student performa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Identify main concepts and key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ducational policy, school improvement, student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Test your keywor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you might need to narrow or broaden your to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Find background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Search for your keywords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ction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ycloped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-specific encycloped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bliograph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se reserve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7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Use catalogs to find books, e-books, digital records, periodicals, and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Helin 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InRhode Library Catalo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mbines the resources of Josiah Catalog, Brown University’s Library Catalog, with those of HELIN Library Cata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6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Use library databases and print inde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Datab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 Full Text Database (also searches ERIC and Education Index Retrospective datab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raus Curriculum Development Library 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M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S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Di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Index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ducation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Index to Journals in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Education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Find reliable web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Use online library search guid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Use online library bibliograph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Use subject directo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MINE: Scholarly Internet Resource Collections at http://infomine.ucr.ed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rarians’ Internet Index at http://li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BL Information Service at http://bubl.ac.uk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ademic Info at http://www.academicinfo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Critically analyze information sources and evaluat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Web information evaluation 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85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Document (cite) your outside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APA Citation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Publication Manual of the American Psychological Association, 6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A Style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http://www.apastyle.org/elecref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OWL at Purd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owl.english.purdue.edu/owl/resource/560/0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A Docu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wisc.edu/writing/Handbook/DocAP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 your searches from general to specif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p records of search strategies, search phrases, keywords used, and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5:18:22Z</dcterms:created>
  <dc:creator> Robert B. Niedbala</dc:creator>
  <dc:description/>
  <dc:language>en-US</dc:language>
  <cp:lastModifiedBy>mona florea</cp:lastModifiedBy>
  <dcterms:modified xsi:type="dcterms:W3CDTF">2010-03-10T19:46:54Z</dcterms:modified>
  <cp:revision>51</cp:revision>
  <dc:subject/>
  <dc:title>The research process</dc:title>
</cp:coreProperties>
</file>